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EB04-013E-4E3E-8DF9-EB7373B1E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D7E2-F6EA-47E7-888C-6722D9C9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615C-5B71-4B50-B59C-8382C83B1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A01B-8357-4FD9-97B7-DC38B84CA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4E66-4A0F-49F0-8121-E08FF54E5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065C-B711-482C-92D6-30D34A78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28BA-7E54-4564-8754-22063C77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4B15E-EC35-42D5-9016-C912AD34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F7244-4084-4D98-99A3-A77DD2BB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3CA0-AAC2-4066-AB33-FEAA1176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F311-508A-4171-B807-6AB3F24B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4F06-24F9-402F-840A-BBD0B058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5167-0AC1-401B-9840-27349F80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4AB2-443E-410E-8F6E-BBA9585C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1ECC-9A96-4E78-B766-1B48AAE5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2891-A4FC-424F-BCCF-31C69C45F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96A28-5683-4E27-A443-D1755242B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81C29-BE16-4214-AE70-098FD93C4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EF3D4-294D-4CBE-89CA-45994AA8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EBA60-0999-40AC-9596-F214B974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C7EA2-74DD-43DC-BF89-ADB9E727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A14DC-8AF9-414E-8A2D-65267D15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7821-6D6F-474B-9BDC-B3784085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3E598-7FA8-4ACE-95BC-34511A78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CAF2C-6CB3-49D2-B82E-8FC99BB7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BDB91-E419-4D46-B2DE-C0E41DD5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26BB4-F516-47DB-B7BC-33BDC9A1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48793-305E-4079-98C3-D35434FB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5EB2E-FE91-43F8-BBB7-60D6D5C1C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EB68E-B6FB-4A74-BC8C-124419730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547F-A6D4-487D-8DF8-249EB008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6DC5-EAE1-4461-9E49-F3DCBC0B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F566-48F7-4F10-B72E-14BA00C7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A9FE-174D-4A22-B6C2-0F7DF138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45F3-B9C5-4780-A46B-AC179F21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9195-D182-456C-BC96-C65ADFE1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6A54-08E0-4E25-AD90-C79DA66F7CAF}" type="datetime3">
              <a:rPr b="0" lang="en-US" sz="10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d1282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C07B-FF80-446F-8A7A-A100E39D36A0}" type="slidenum">
              <a:rPr b="1" lang="en-US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FE05-5C53-4932-8E47-852781CD1128}" type="datetime3">
              <a:rPr b="0" lang="en-US" sz="10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B0CF-3F87-407E-A6CF-BF4D81C06A4D}" type="slidenum">
              <a:rPr b="1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B074-F069-46A9-8F19-7F0488A3D617}" type="datetime3">
              <a:rPr b="0" lang="en-US" sz="10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0574-ED39-414B-8EF8-F42A22760266}" type="slidenum">
              <a:rPr b="1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57913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d1282e"/>
                </a:solidFill>
                <a:latin typeface="Arial Black"/>
              </a:rPr>
              <a:t>____________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902040" y="625320"/>
            <a:ext cx="502776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RECOBRIMENT DEL COS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ALIMENTACIÓ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RESPIRACIÓ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DESPLAÇAMENT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REPRODUCCIÓ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74280"/>
            <a:ext cx="32925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OTO!!!!!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13:54:09Z</dcterms:created>
  <dc:creator>Laura Delgado Martínez</dc:creator>
  <dc:description/>
  <dc:language>en-US</dc:language>
  <cp:lastModifiedBy>Laura Delgado Martínez</cp:lastModifiedBy>
  <dcterms:modified xsi:type="dcterms:W3CDTF">2011-01-18T14:14:41Z</dcterms:modified>
  <cp:revision>3</cp:revision>
  <dc:subject/>
  <dc:title>mamífers</dc:title>
</cp:coreProperties>
</file>